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637-E88D-49ED-80EE-ADF960A9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9697-D0E9-461C-A347-17FA22BB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ACF-F64E-4741-972F-D1470362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C3D-49F1-49B0-A257-74E28486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159A-50C9-44A2-9674-4BD6116B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9E1-803D-4044-8A5B-5E3D7B47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DDF-8B24-4F84-A50F-0CE84E9F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9ED-77E0-434E-9379-9C94B69D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E36-E0B9-4A39-A698-03E6AC07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842-6FF2-4E76-ADE6-6B3E1782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A5D-785F-4BC3-B659-8A1EA587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24C-0880-4ED4-A858-AA1F1583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 Ap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480" y="624852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ussois, 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7DBB-35E7-4C97-AD1E-245BA73D2D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77120" y="6188040"/>
            <a:ext cx="2057400" cy="59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52424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RLE INDUSTRI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cent Photomultiplier an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vice Developmen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2895120"/>
            <a:ext cx="7391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Zurich Cn BT"/>
              </a:rPr>
              <a:t>NNN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Zurich Cn BT"/>
              </a:rPr>
              <a:t>Robert Caraccio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Zurich Cn BT"/>
              </a:rPr>
              <a:t>8 April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6480" y="487692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RLE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nacon Characteristic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atial resolution can be tailored by choice of faceplate, MCP, and pixilated a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od photon counting properties at gains of 0.2 – 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ak to Valley typically &gt; 2:1 with uniform illumination of facepl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 is relatively insensitive to external magnetic fields due to proximity of the cathode, MCP, and an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od pulse height resol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% FWHM, 2” NaI crystal, 662keV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hode uniformity within 10% over full active are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ode uniformity ~ 1.5:1 over the 2” active area in analog m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al is to obtain 1.2:1 anode uniformi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oss-talk &lt; 1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acon Characteristics (cont’d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pore size with 32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pitch, investigating the use of 1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pore si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:1 L/D ratio, probably moving to 60:1 for the 1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ins of up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current MC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ed dynamic range g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in is very stable up to ~3% of strip 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vron config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ed Open Area Ratio Planac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aging is streamlined to maximize detector area relative to device 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28” sq. vs. 2.50” sq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.45” vs. 0.65” 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6% vs. 66% O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8 gms vs. 128 gm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the anode configurations off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 Open Area Ratio for tiling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variants optimized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ton counting with high spatial 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cross-talk and magnetic field i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yogenic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tra-low backg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other geometries as required by specific markets and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ent PMT and Module Offering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575B, a low cost variant of the 857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 material is 82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mbly technique is simplified for improved manufacturab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575Q, Quartz faceplate for UV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575B-800, 8575B module with integrated HVPS and di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3092 module, short 1” tube for oil well logging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575B-800 Modu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16000" r="0" b="1600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575B-800 Characteristic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cuum potted – ideal for high altitude balloon paylo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noise ( 10mV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power (12V @ 1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tage or resistance control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rge Area PMT Pro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ely working on Phase II objectives of a DOE SBIR to develop a 20” diameter PMT with cost &lt; $0.75/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ctive area, including VDN and cab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also develop 2”, 5”, and 8” vari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 to establish close ties with researchers associated with proton-decay and neutrino experiments to aid i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s a BURLE commitment to becoming a major player in the HEP 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quiremen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1828800"/>
          <a:ext cx="7772400" cy="4375080"/>
        </p:xfrm>
        <a:graphic>
          <a:graphicData uri="http://schemas.openxmlformats.org/drawingml/2006/table">
            <a:tbl>
              <a:tblPr/>
              <a:tblGrid>
                <a:gridCol w="2690640"/>
                <a:gridCol w="1046160"/>
                <a:gridCol w="747720"/>
                <a:gridCol w="32878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ectral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 -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sponse &lt; 300nm not very useful due to attenuation length in 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thode QE at 390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as high as 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lection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as high as 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x 10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rk Cou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c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3 – 4 kHz at 30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nsit Time Spread (FWH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3 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otocathode area, head-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zed to give lowest cost per unit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 Vol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uld be hig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s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outside – inside pressure difference. Could use acrylic pressure vessel if need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ck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DN + HV and signal cables, hermetically sea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emical resist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ure H</a:t>
                      </a:r>
                      <a:r>
                        <a:rPr b="0" lang="en-US" sz="1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otocathode Desig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for highest possible QE and lowest possible dark counts are in confli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e-study will be performed and initial PMT builds will be designed to optimize these parameters. Dark counts of 3kcps are possible, but QE will probably be limited to 20% ma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 multiplier design will influence the dark counts, and will be considered in that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RLE INDUSTRIES Overview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INDUSTRIE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version Tu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wer Tu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 E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ELECTRO-OPTIC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INDUSTRIES Gmb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INDUSTRIES UK LIM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deMex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urrent Activiti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facing with glass and bulb manufacturers to optimize cost-effective bulb design and manufacturing approa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A and environmental testing to validate mechanical integrity of bul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loying 2-D and 3-D electron optics mode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thode to Dy1 fie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y1 to the electron multiplier fie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 and implement novel focusing elements.  Required for a bulb with a small nec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idated our design concepts on the 2” PMT.  Will continue with the 5”, 8”, and 20” PMT’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iewing different photocathode processes and or design to optimize balance of QE and Dark cou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ed a high volume Manufacturing facility in Mexico to maintain production of PET and SPECT PMT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ing new product lines to further service both the Medical Imaging Business, as well as other applications including HEP, oil well logging, X-ray digitiz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 Modules to make the application of PMT’s more convenient to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ing large PMT formats to service the HEP commun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re Competenci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rsion Tubes, Lancaster 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ventional PMT design and fabr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otocathode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age tube design and fabr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MT pack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onics: VDN, Miniature HVPS, Front-end electron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05740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wer Tubes, Lancaster 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 and fabrication of vacuum tubes for power generation and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ting and environmental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ramic-to-Metal joining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O, Sturbridge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crochannel 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nel multi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ber op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MT Marke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Ima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ntain ~ 30% market share and grow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vide high-volume tubes for both SPECT and P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presence in general spectroscopy, scintillation counting, and H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gun to target the HEP market more aggressiv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of the PLANACON fami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 competitive fast timing PMTs such as the 8575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BIR grant to develop large area PM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cent Product Developmen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ac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T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nacon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MCP-PM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inch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quare fl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MT with dual MCP multipli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odes, 2x2 and 8x8 configurations. Additional configurations avail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-alkali cathode on quartz faceplate or cryogenic bi-alkal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asily tiled, low profile, photon counting, good time resolution, multi-ano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73720" y="2389320"/>
            <a:ext cx="42894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CP-PMT Construc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14400" y="2549520"/>
            <a:ext cx="7467480" cy="1143000"/>
            <a:chOff x="914400" y="2549520"/>
            <a:chExt cx="7467480" cy="1143000"/>
          </a:xfrm>
        </p:grpSpPr>
        <p:grpSp>
          <p:nvGrpSpPr>
            <p:cNvPr id="59" name=""/>
            <p:cNvGrpSpPr/>
            <p:nvPr/>
          </p:nvGrpSpPr>
          <p:grpSpPr>
            <a:xfrm>
              <a:off x="914400" y="2549520"/>
              <a:ext cx="7467480" cy="914400"/>
              <a:chOff x="914400" y="2549520"/>
              <a:chExt cx="7467480" cy="914400"/>
            </a:xfrm>
          </p:grpSpPr>
          <p:sp>
            <p:nvSpPr>
              <p:cNvPr id="60" name=""/>
              <p:cNvSpPr/>
              <p:nvPr/>
            </p:nvSpPr>
            <p:spPr>
              <a:xfrm>
                <a:off x="914400" y="2549520"/>
                <a:ext cx="7467480" cy="1476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14400" y="2701800"/>
                <a:ext cx="228600" cy="22860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90360" y="2701800"/>
                <a:ext cx="15264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14400" y="30067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914400" y="29304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14400" y="32353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914400" y="31590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914400" y="3387240"/>
                <a:ext cx="7467480" cy="7632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153280" y="2701800"/>
                <a:ext cx="228600" cy="22860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153280" y="2701800"/>
                <a:ext cx="15228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153280" y="30067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001000" y="29304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153280" y="32353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8001000" y="31590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8960" y="3006720"/>
                <a:ext cx="6858000" cy="76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18960" y="3083040"/>
                <a:ext cx="6858000" cy="759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37160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9680" y="3387600"/>
              <a:ext cx="609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812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24280" y="3387600"/>
              <a:ext cx="609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6272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7712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1520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6728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2920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9112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1460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5268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8168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012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5562000" y="1863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e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3080" y="47592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ode &amp;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6440" y="18288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um S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9040" y="464832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al M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60480" y="422604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P Re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7400" y="407340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ramic Ins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43800" y="3083040"/>
            <a:ext cx="68580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1066320" y="2930040"/>
            <a:ext cx="762120" cy="1295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429000" y="3083040"/>
            <a:ext cx="304920" cy="14889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410080" y="3463920"/>
            <a:ext cx="381240" cy="1371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066320" y="2244600"/>
            <a:ext cx="762120" cy="457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62360" y="2244600"/>
            <a:ext cx="60948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52992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cing between faceplate and MCP and MCP and anode can be varied for different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MT Construction/Processing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 multiplier is supported by bulb spacers and leads to the 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elope is evacuated through an exhaust tub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hode processed in-situ with Sb and alkali dispen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p-off of tubulation using flame or electric he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48240" y="247644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2476440"/>
            <a:ext cx="22824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34120" y="2476440"/>
            <a:ext cx="22752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2590920"/>
            <a:ext cx="0" cy="240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2590920"/>
            <a:ext cx="0" cy="240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334120" y="4875840"/>
            <a:ext cx="22752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162920" y="4875840"/>
            <a:ext cx="22824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48240" y="5105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91240" y="5105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5105520"/>
            <a:ext cx="228240" cy="22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477120" y="5105520"/>
            <a:ext cx="227520" cy="22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52196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52196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733920"/>
            <a:ext cx="1143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19920" y="396252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791680" y="3276000"/>
            <a:ext cx="9136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019920" y="407592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34400" y="430524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6362640" y="430452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533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10080" y="35049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315200" y="35049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34040" y="350532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3429000"/>
            <a:ext cx="106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b b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48440" y="3733920"/>
            <a:ext cx="11448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03848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ka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29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5219640"/>
            <a:ext cx="762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91240" y="5638680"/>
            <a:ext cx="1790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haust tub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447880" y="2590920"/>
            <a:ext cx="6858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248520" y="2590920"/>
            <a:ext cx="10285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25909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3619440"/>
            <a:ext cx="228600" cy="34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4038480"/>
            <a:ext cx="304920" cy="38124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2514600"/>
            <a:ext cx="16002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2004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yn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629040" y="3505320"/>
            <a:ext cx="106668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1981080"/>
            <a:ext cx="1790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hotocath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37339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63868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867280" y="4191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4191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3505320"/>
            <a:ext cx="75960" cy="75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3505320"/>
            <a:ext cx="76320" cy="75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CP-PMT Opera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4920" y="2427120"/>
            <a:ext cx="2273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e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cath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0520" y="3429000"/>
            <a:ext cx="19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al M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1760" y="5105520"/>
            <a:ext cx="15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33560" y="3505320"/>
            <a:ext cx="495288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33560" y="3657600"/>
            <a:ext cx="49528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905120" y="2818440"/>
            <a:ext cx="4952880" cy="75960"/>
          </a:xfrm>
          <a:prstGeom prst="rect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990960" y="2895480"/>
            <a:ext cx="3038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90960" y="3505320"/>
            <a:ext cx="152280" cy="15228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5257800"/>
            <a:ext cx="502920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71840" y="5334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000240" y="3657600"/>
            <a:ext cx="1980720" cy="3047760"/>
            <a:chOff x="3000240" y="3657600"/>
            <a:chExt cx="1980720" cy="3047760"/>
          </a:xfrm>
        </p:grpSpPr>
        <p:sp>
          <p:nvSpPr>
            <p:cNvPr id="172" name=""/>
            <p:cNvSpPr/>
            <p:nvPr/>
          </p:nvSpPr>
          <p:spPr>
            <a:xfrm flipH="1">
              <a:off x="3990600" y="3657600"/>
              <a:ext cx="152280" cy="152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457440" y="3809880"/>
              <a:ext cx="10663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58160" y="3809880"/>
              <a:ext cx="106560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00960" y="3809880"/>
              <a:ext cx="198000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000240" y="3809880"/>
              <a:ext cx="19807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762360" y="3809880"/>
              <a:ext cx="456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62720" y="3809880"/>
              <a:ext cx="456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645800" y="426708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in ~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27440" y="297180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elec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44960" y="2971800"/>
            <a:ext cx="19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~ 20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44960" y="4343400"/>
            <a:ext cx="19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~ 20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45320" y="350532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~ 200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962520" y="1752120"/>
            <a:ext cx="330120" cy="914760"/>
            <a:chOff x="3962520" y="1752120"/>
            <a:chExt cx="330120" cy="914760"/>
          </a:xfrm>
        </p:grpSpPr>
        <p:sp>
          <p:nvSpPr>
            <p:cNvPr id="185" name=""/>
            <p:cNvSpPr/>
            <p:nvPr/>
          </p:nvSpPr>
          <p:spPr>
            <a:xfrm>
              <a:off x="3962520" y="1904760"/>
              <a:ext cx="330120" cy="457200"/>
            </a:xfrm>
            <a:custGeom>
              <a:avLst/>
              <a:gdLst/>
              <a:ahLst/>
              <a:rect l="l" t="t" r="r" b="b"/>
              <a:pathLst>
                <a:path w="208" h="288">
                  <a:moveTo>
                    <a:pt x="112" y="0"/>
                  </a:moveTo>
                  <a:cubicBezTo>
                    <a:pt x="56" y="16"/>
                    <a:pt x="0" y="32"/>
                    <a:pt x="16" y="48"/>
                  </a:cubicBezTo>
                  <a:cubicBezTo>
                    <a:pt x="32" y="64"/>
                    <a:pt x="208" y="80"/>
                    <a:pt x="208" y="96"/>
                  </a:cubicBezTo>
                  <a:cubicBezTo>
                    <a:pt x="208" y="112"/>
                    <a:pt x="16" y="128"/>
                    <a:pt x="16" y="144"/>
                  </a:cubicBezTo>
                  <a:cubicBezTo>
                    <a:pt x="16" y="160"/>
                    <a:pt x="208" y="176"/>
                    <a:pt x="208" y="192"/>
                  </a:cubicBezTo>
                  <a:cubicBezTo>
                    <a:pt x="208" y="208"/>
                    <a:pt x="32" y="224"/>
                    <a:pt x="16" y="240"/>
                  </a:cubicBezTo>
                  <a:cubicBezTo>
                    <a:pt x="0" y="256"/>
                    <a:pt x="96" y="280"/>
                    <a:pt x="112" y="28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40360" y="2361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140360" y="1752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942720" y="1905120"/>
            <a:ext cx="15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905120" y="2666520"/>
            <a:ext cx="4952880" cy="152640"/>
          </a:xfrm>
          <a:prstGeom prst="rect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7:03:25Z</dcterms:created>
  <dc:creator>Robert Caracciolo</dc:creator>
  <dc:description/>
  <dc:language>en-US</dc:language>
  <cp:lastModifiedBy>caracciolor</cp:lastModifiedBy>
  <dcterms:modified xsi:type="dcterms:W3CDTF">2005-04-08T10:17:51Z</dcterms:modified>
  <cp:revision>82</cp:revision>
  <dc:subject/>
  <dc:title>NNN05</dc:title>
</cp:coreProperties>
</file>